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8B3-CBAA-46E7-BA14-67AAEFED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9BA-B20C-4FCD-A32D-83B963F5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367-EE3A-4335-984C-18C86705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789-3A43-43AE-8027-19FD19F6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8D6-5101-4E80-AC7C-2B1AB120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C51-90A0-4DD4-9BA5-D86A7535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82D-1646-4FE2-A953-7F0FDECE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02D-072B-41E1-8A15-8146D313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CCB-78D2-478E-A876-D85A4714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300-577B-46AE-9A87-70685890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260-8642-43D6-8AE2-3FB2B004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0ED-40F4-437C-9D6E-303AAB25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73EB-54EE-4195-BD76-523F51C541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0720" y="2362320"/>
            <a:ext cx="378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ortal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34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934320" y="586728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467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1282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7467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05720" y="1523880"/>
            <a:ext cx="1600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7543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10:08Z</dcterms:modified>
  <cp:revision>195</cp:revision>
  <dc:subject/>
  <dc:title>Slide 1</dc:title>
</cp:coreProperties>
</file>